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DF5-D552-4EE1-A4C2-2351DC53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B3B-B549-4F92-8A67-C380BC00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1AB-C68E-4622-8798-5CE6FE80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B95-9F98-4DC7-AA81-BCEA011D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E775-2144-4F5D-AEB1-93061BB4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C3A6-99B1-4666-BFFA-A800B79C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F600-C3DC-40EF-8327-28CEE519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7208-F698-41BA-BB72-292E1A94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07AA-28A4-42B3-B306-D407C289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1428-A5DF-4053-8859-F84CC85E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5F0E-BFEC-4895-B369-6EF3B9B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1D9-E42A-4EF6-8F1D-4F860296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B42F-3887-4A62-A643-D6D24C0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CFB8-57A5-42F4-AF51-BE6CF979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167A-A076-44BF-BCF9-67E34124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6250-FE8E-4B77-9D2E-1DFA0EE7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AC2C-CC77-485B-868D-47C5628D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936-DB3C-4D5B-9EF9-B30D0EFE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BAB-68F4-4748-9A3A-6155C3C1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EB0-0F7A-484C-8BF9-3F8FE409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112-58EB-4F77-9625-AA893914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4B9-597D-4D60-B0E6-FBC0D40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3E7-1491-41B2-A4AC-C896F89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951-42F9-4B17-BA34-72A93410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765A-B3E2-4FEB-B516-884A23A22B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7943-3675-4C76-B9FB-E7E933FCC8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b7e7ff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b7e7ff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b7e7ff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20400" y="3909960"/>
            <a:ext cx="664236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2" descr="comp_i"/>
          <p:cNvPicPr/>
          <p:nvPr/>
        </p:nvPicPr>
        <p:blipFill>
          <a:blip r:embed="rId2"/>
          <a:stretch/>
        </p:blipFill>
        <p:spPr>
          <a:xfrm>
            <a:off x="5205240" y="2197080"/>
            <a:ext cx="13032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b2</cp:lastModifiedBy>
  <dcterms:modified xsi:type="dcterms:W3CDTF">2012-06-19T11:15:17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